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31D-D1B6-4FCD-BFD9-014B5D1B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D63-B45B-4960-9961-623DF3BF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0E7-4BC1-444C-B242-82F760E0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EA7-004B-4B7F-A2BC-39C205A2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97A-3525-4CFD-A905-79A89860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920-F1A8-4BD7-9C87-ADD160D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D95-8213-4583-A016-22A001A3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9F8-9EFC-4EB5-A397-C740466E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BA2-0758-4D5A-AAF3-38B87D47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8AD-CCBB-4C89-877F-B6A95D7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446-44AE-4F67-BBAD-E10D551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D70-7C31-4218-8D19-4BBA19B5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766-D305-482A-A734-549479D7F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18T15:47:17Z</dcterms:modified>
  <cp:revision>1</cp:revision>
  <dc:subject/>
  <dc:title>Title</dc:title>
</cp:coreProperties>
</file>